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3BC-398B-4093-A853-F570B397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6CE-E071-4F07-89CF-CC5B4BA0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107-F756-4089-81E0-3545A570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507-DC91-4828-973B-8045EEEA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469-6EAF-4FAB-9B96-87557105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9FC-0B24-4C67-9330-F32D1266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BE3-4A77-4296-AC3D-D75C9842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621-6FAD-4F55-98E5-20ED14EB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D72-98EC-48EA-B75F-4260CEB9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364-1229-498F-A714-CCD85403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C8D-87D2-47C5-BF3B-BCE3573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7A2-573C-42F7-A1CB-D83927E7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B0B5-52FE-49FC-90E3-DDEF8E2D6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9680" y="298404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rek Kukawczyńsk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35,C4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sultacje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działek 13.15 - 15.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orek 11.15 - 13.00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 156.17.39.22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zue.ita.pwr.wroc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marek.kukawczynski@pwr.wroc.pl</a:t>
            </a:r>
            <a:br>
              <a:rPr sz="2000"/>
            </a:br>
            <a:br>
              <a:rPr sz="2000"/>
            </a:b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 podstawowa i dodatkowa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. Nosal, J.Baranow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kłady elektroniczne cz. 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. Kuta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Elementy i układy elektroniczne, cz. 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AGH, Kraków 20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. Guziń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Liniowe elektroniczne układy analog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NT Warszaw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liniowych,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nieliniowych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 impulsowych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27400" y="1295280"/>
            <a:ext cx="857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npn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p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pn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 tzw. polaryzacji norm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263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290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300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7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yz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9400" y="2306520"/>
            <a:ext cx="901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yzacja polega na zastąpieniu nieliniowej funkcji opisującej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u przez funkcję liniową, która jest przybliżeniem tej pierwsz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ewnym niewielkim zakresie zmian jej argu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otoczeniu punktu pracy 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przy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57360" y="988920"/>
            <a:ext cx="1902960" cy="1087560"/>
            <a:chOff x="657360" y="988920"/>
            <a:chExt cx="1902960" cy="1087560"/>
          </a:xfrm>
        </p:grpSpPr>
        <p:sp>
          <p:nvSpPr>
            <p:cNvPr id="382" name=""/>
            <p:cNvSpPr/>
            <p:nvPr/>
          </p:nvSpPr>
          <p:spPr>
            <a:xfrm>
              <a:off x="1663920" y="98892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57360" y="993960"/>
              <a:ext cx="1902960" cy="1082520"/>
              <a:chOff x="657360" y="993960"/>
              <a:chExt cx="1902960" cy="1082520"/>
            </a:xfrm>
          </p:grpSpPr>
          <p:sp>
            <p:nvSpPr>
              <p:cNvPr id="384" name=""/>
              <p:cNvSpPr/>
              <p:nvPr/>
            </p:nvSpPr>
            <p:spPr>
              <a:xfrm rot="10800000">
                <a:off x="2326680" y="142092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301840" y="164952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5440" y="104004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95440" y="203040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25680" y="164952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73040" y="993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7360" y="134460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30360" y="104004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92000" y="1040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7440" y="1968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419120" y="11919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222720" y="1004760"/>
                <a:ext cx="3200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77880" y="2117880"/>
                <a:ext cx="7572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5899320" y="3006720"/>
            <a:ext cx="238752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083120" y="3833640"/>
            <a:ext cx="1866960" cy="90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55706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019320" y="428616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19320" y="61358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30720" y="5246640"/>
            <a:ext cx="111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30520" y="545796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625400" y="42829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566720" y="648180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66880" y="428292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66560" y="38019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484280" y="43542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0000" y="46846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05040" y="5227560"/>
            <a:ext cx="63504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32280" y="54388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95640" y="430524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97360" y="5056200"/>
            <a:ext cx="1936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94200" y="45403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9120" y="2811600"/>
            <a:ext cx="1376280" cy="1620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45040" y="4268880"/>
            <a:ext cx="2163600" cy="1038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41560" y="3079800"/>
            <a:ext cx="3844800" cy="10033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21120" y="4594320"/>
            <a:ext cx="0" cy="371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106440" y="4132440"/>
            <a:ext cx="469800" cy="506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32760" y="595476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odel linowy - wielkosygna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parametry modelu li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01640" y="1789200"/>
                <a:ext cx="77580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 flipV="1">
            <a:off x="2998800" y="3930120"/>
            <a:ext cx="1782720" cy="1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83440" y="5632560"/>
            <a:ext cx="1131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91920" y="3814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5360" y="4697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106720" y="878040"/>
                <a:ext cx="4680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4849920" y="3427560"/>
            <a:ext cx="3477960" cy="3327840"/>
            <a:chOff x="4849920" y="3427560"/>
            <a:chExt cx="3477960" cy="3327840"/>
          </a:xfrm>
        </p:grpSpPr>
        <p:sp>
          <p:nvSpPr>
            <p:cNvPr id="440" name=""/>
            <p:cNvSpPr/>
            <p:nvPr/>
          </p:nvSpPr>
          <p:spPr>
            <a:xfrm flipV="1">
              <a:off x="5413320" y="4105800"/>
              <a:ext cx="0" cy="20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13320" y="6195960"/>
              <a:ext cx="221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08640" y="4193280"/>
              <a:ext cx="1747800" cy="19980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916320" y="4338360"/>
              <a:ext cx="284040" cy="1905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78600" y="5363280"/>
              <a:ext cx="92160" cy="91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23040" y="5400000"/>
              <a:ext cx="1589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21440" y="5473800"/>
              <a:ext cx="0" cy="758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74440" y="498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9920" y="5131440"/>
              <a:ext cx="7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3280" y="634968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59720" y="578556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99000" y="4064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23240" y="6341040"/>
              <a:ext cx="10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7070400" y="6214680"/>
              <a:ext cx="1429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642000" y="6252120"/>
              <a:ext cx="246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0960" y="3427560"/>
              <a:ext cx="169200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573" y="2968"/>
                  </a:moveTo>
                  <a:lnTo>
                    <a:pt x="25349" y="2968"/>
                  </a:lnTo>
                  <a:lnTo>
                    <a:pt x="25349" y="30627"/>
                  </a:lnTo>
                  <a:lnTo>
                    <a:pt x="7595" y="3001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nachylenie g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41440" y="121608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700440" y="5484960"/>
                <a:ext cx="176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556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4240" y="527220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22600" y="790560"/>
            <a:ext cx="1182600" cy="88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86080" y="3011400"/>
            <a:ext cx="234936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nearyzacja złącza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8400" y="828720"/>
            <a:ext cx="3662280" cy="3786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10080" y="55656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546" name="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66920" y="2900520"/>
            <a:ext cx="768240" cy="1303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95080" y="163440"/>
            <a:ext cx="67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53240" y="1951200"/>
            <a:ext cx="15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00880" y="11001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69800" y="3371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008600" y="3624120"/>
            <a:ext cx="939600" cy="136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41800" y="5937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57000" y="24750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tyczny 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8468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86560" y="437976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77104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94520" y="42768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zmiany p.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370240" y="4385880"/>
            <a:ext cx="47628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95760" y="3395520"/>
            <a:ext cx="223560" cy="1357560"/>
          </a:xfrm>
          <a:custGeom>
            <a:avLst/>
            <a:gdLst/>
            <a:ahLst/>
            <a:rect l="l" t="t" r="r" b="b"/>
            <a:pathLst>
              <a:path w="141" h="729">
                <a:moveTo>
                  <a:pt x="141" y="0"/>
                </a:moveTo>
                <a:cubicBezTo>
                  <a:pt x="130" y="96"/>
                  <a:pt x="119" y="192"/>
                  <a:pt x="102" y="291"/>
                </a:cubicBezTo>
                <a:cubicBezTo>
                  <a:pt x="85" y="390"/>
                  <a:pt x="53" y="521"/>
                  <a:pt x="36" y="594"/>
                </a:cubicBezTo>
                <a:cubicBezTo>
                  <a:pt x="19" y="667"/>
                  <a:pt x="9" y="698"/>
                  <a:pt x="0" y="729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lg" type="arrow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790640" y="2517840"/>
            <a:ext cx="56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gnał jest to zmiana punktu pra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ówimy o chwilowym punkcie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27920" y="2297160"/>
            <a:ext cx="771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gzamin pisem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unkiem przystąpienia jest zaliczony projekt U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7120" y="236052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7120" y="2513160"/>
            <a:ext cx="266760" cy="26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58880" y="234936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2160" y="297036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30440" y="2925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19280" y="20001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58880" y="2055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58880" y="43131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58880" y="2055960"/>
            <a:ext cx="0" cy="304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42498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0120" y="293688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942840" y="2254320"/>
                <a:ext cx="520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1670040" y="29703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9080" y="312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9000" y="18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78040" y="40687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70040" y="268920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986120" y="205596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9080" y="2970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9240" y="304632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74640" y="3348000"/>
            <a:ext cx="17640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1644480" y="408744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662120" y="3876840"/>
            <a:ext cx="0" cy="28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6240" y="3344760"/>
            <a:ext cx="4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729720" y="3214800"/>
            <a:ext cx="141480" cy="1146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2400" y="359712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99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375360" y="1773360"/>
            <a:ext cx="5511240" cy="3308400"/>
            <a:chOff x="3375360" y="1773360"/>
            <a:chExt cx="5511240" cy="3308400"/>
          </a:xfrm>
        </p:grpSpPr>
        <p:sp>
          <p:nvSpPr>
            <p:cNvPr id="633" name=""/>
            <p:cNvSpPr/>
            <p:nvPr/>
          </p:nvSpPr>
          <p:spPr>
            <a:xfrm>
              <a:off x="607356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3720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6200000">
              <a:off x="430920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008840" y="3195720"/>
              <a:ext cx="417600" cy="717480"/>
              <a:chOff x="7008840" y="3195720"/>
              <a:chExt cx="417600" cy="717480"/>
            </a:xfrm>
          </p:grpSpPr>
          <p:sp>
            <p:nvSpPr>
              <p:cNvPr id="637" name=""/>
              <p:cNvSpPr/>
              <p:nvPr/>
            </p:nvSpPr>
            <p:spPr>
              <a:xfrm>
                <a:off x="700884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2000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3924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5470560" y="3441600"/>
              <a:ext cx="324000" cy="81000"/>
              <a:chOff x="5470560" y="3441600"/>
              <a:chExt cx="324000" cy="81000"/>
            </a:xfrm>
          </p:grpSpPr>
          <p:sp>
            <p:nvSpPr>
              <p:cNvPr id="641" name=""/>
              <p:cNvSpPr/>
              <p:nvPr/>
            </p:nvSpPr>
            <p:spPr>
              <a:xfrm>
                <a:off x="547704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47056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078600" y="2927520"/>
              <a:ext cx="81000" cy="323280"/>
              <a:chOff x="6078600" y="2927520"/>
              <a:chExt cx="81000" cy="323280"/>
            </a:xfrm>
          </p:grpSpPr>
          <p:sp>
            <p:nvSpPr>
              <p:cNvPr id="644" name=""/>
              <p:cNvSpPr/>
              <p:nvPr/>
            </p:nvSpPr>
            <p:spPr>
              <a:xfrm flipV="1">
                <a:off x="607860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15960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80052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6416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22936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563580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936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2936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6428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4068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2340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7536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0320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6796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5368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84080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584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3244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6868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8988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5664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8020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3508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0776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98168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0932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1348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6616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2352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8508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0432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1380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623052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563580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580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24068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58800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8972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457524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4481640" y="4537080"/>
                  <a:ext cx="4143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81816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71664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44212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802800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4600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68120" y="3067200"/>
                <a:ext cx="2779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95400" y="2043000"/>
                <a:ext cx="47480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142920" y="5543640"/>
                <a:ext cx="3687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0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701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zwarciow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półczynnika wzmocnienia prądowego 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5640" y="1828800"/>
            <a:ext cx="9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C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395280" y="490536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412920" y="604188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2947320" y="611172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06360" y="1492200"/>
            <a:ext cx="50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liczamy prz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ZWARCI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lektora i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568840" y="1907640"/>
            <a:ext cx="2970360" cy="1005120"/>
            <a:chOff x="5568840" y="1907640"/>
            <a:chExt cx="2970360" cy="1005120"/>
          </a:xfrm>
        </p:grpSpPr>
        <p:sp>
          <p:nvSpPr>
            <p:cNvPr id="738" name=""/>
            <p:cNvSpPr/>
            <p:nvPr/>
          </p:nvSpPr>
          <p:spPr>
            <a:xfrm>
              <a:off x="6405480" y="2406240"/>
              <a:ext cx="1094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5900400" y="2131560"/>
              <a:ext cx="84240" cy="331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7575480" y="2358720"/>
              <a:ext cx="260280" cy="339840"/>
              <a:chOff x="7575480" y="2358720"/>
              <a:chExt cx="260280" cy="339840"/>
            </a:xfrm>
          </p:grpSpPr>
          <p:sp>
            <p:nvSpPr>
              <p:cNvPr id="741" name=""/>
              <p:cNvSpPr/>
              <p:nvPr/>
            </p:nvSpPr>
            <p:spPr>
              <a:xfrm>
                <a:off x="7575480" y="2358720"/>
                <a:ext cx="253440" cy="217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82320" y="2481120"/>
                <a:ext cx="253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19120" y="244188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6613560" y="2476080"/>
              <a:ext cx="201600" cy="38160"/>
              <a:chOff x="6613560" y="2476080"/>
              <a:chExt cx="201600" cy="38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617520" y="247608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13560" y="251424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993000" y="2233080"/>
              <a:ext cx="50760" cy="152280"/>
              <a:chOff x="6993000" y="2233080"/>
              <a:chExt cx="50760" cy="152280"/>
            </a:xfrm>
          </p:grpSpPr>
          <p:sp>
            <p:nvSpPr>
              <p:cNvPr id="748" name=""/>
              <p:cNvSpPr/>
              <p:nvPr/>
            </p:nvSpPr>
            <p:spPr>
              <a:xfrm flipV="1">
                <a:off x="6993000" y="223308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043760" y="223596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5568840" y="23000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08480" y="230796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462720" y="2307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716520" y="230760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62720" y="265860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27680" y="25174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05200" y="2817360"/>
              <a:ext cx="26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47000" y="2317320"/>
              <a:ext cx="12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19840" y="2317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0868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40600" y="2454120"/>
              <a:ext cx="1094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094600" y="231696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10576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02480" y="2798280"/>
              <a:ext cx="45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72320" y="278568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083440" y="279036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3920" y="2280960"/>
              <a:ext cx="478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96080" y="2303280"/>
              <a:ext cx="475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78760" y="2295360"/>
              <a:ext cx="4608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7100640" y="1783440"/>
              <a:ext cx="83880" cy="33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6716520" y="19328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16520" y="19411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719840" y="194076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11960" y="194112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88080" y="2295360"/>
              <a:ext cx="460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6053040" y="2811240"/>
                  <a:ext cx="71280" cy="1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227800" y="2323800"/>
              <a:ext cx="311400" cy="501480"/>
            </a:xfrm>
            <a:custGeom>
              <a:avLst/>
              <a:gdLst/>
              <a:ahLst/>
              <a:rect l="l" t="t" r="r" b="b"/>
              <a:pathLst>
                <a:path w="196" h="316">
                  <a:moveTo>
                    <a:pt x="24" y="0"/>
                  </a:moveTo>
                  <a:lnTo>
                    <a:pt x="196" y="0"/>
                  </a:lnTo>
                  <a:lnTo>
                    <a:pt x="196" y="316"/>
                  </a:lnTo>
                  <a:lnTo>
                    <a:pt x="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3460680" y="2286000"/>
            <a:ext cx="162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=0,707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A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3480" y="2278080"/>
            <a:ext cx="896760" cy="37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620360" y="2486160"/>
            <a:ext cx="154620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782" name="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802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805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808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822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826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830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5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01" name="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902" name="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904" name="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908" name="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31" name="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937" name="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939" name="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953" name="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962" name="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972" name="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975" name="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976" name="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986" name="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995" name="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9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6600" y="1298520"/>
            <a:ext cx="8026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sprawiedliwianie nieobecności na egzamini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wolnienie i wpis do książeczki zdrowia dostarcz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pierwszego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 tydzień lub następny termin egzamin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co wcześniej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drugiego 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3 dn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1058" name="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1059" name="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068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1079" name="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085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091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094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965160" y="2257560"/>
                <a:ext cx="3413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5" name="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109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121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127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130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6" name="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185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186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227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264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265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8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 dla 1mA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mS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1307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1310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1313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355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373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441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519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583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656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729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802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875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948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9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76280" y="291312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rowadz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4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5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7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2070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7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2078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2081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2118" name="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2121" name="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3" name="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4" name="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11440" y="3878280"/>
            <a:ext cx="932040" cy="10285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5308560" y="3927600"/>
            <a:ext cx="992160" cy="10303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4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2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5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5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3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4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5040" y="16344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kt pracy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69320" y="871560"/>
            <a:ext cx="3046680" cy="2616120"/>
            <a:chOff x="2569320" y="871560"/>
            <a:chExt cx="3046680" cy="2616120"/>
          </a:xfrm>
        </p:grpSpPr>
        <p:grpSp>
          <p:nvGrpSpPr>
            <p:cNvPr id="47" name=""/>
            <p:cNvGrpSpPr/>
            <p:nvPr/>
          </p:nvGrpSpPr>
          <p:grpSpPr>
            <a:xfrm>
              <a:off x="3005280" y="1496880"/>
              <a:ext cx="1422360" cy="1990800"/>
              <a:chOff x="3005280" y="1496880"/>
              <a:chExt cx="1422360" cy="1990800"/>
            </a:xfrm>
          </p:grpSpPr>
          <p:sp>
            <p:nvSpPr>
              <p:cNvPr id="48" name=""/>
              <p:cNvSpPr/>
              <p:nvPr/>
            </p:nvSpPr>
            <p:spPr>
              <a:xfrm>
                <a:off x="3005280" y="1496880"/>
                <a:ext cx="1287720" cy="1990800"/>
              </a:xfrm>
              <a:custGeom>
                <a:avLst/>
                <a:gdLst/>
                <a:ahLst/>
                <a:rect l="l" t="t" r="r" b="b"/>
                <a:pathLst>
                  <a:path w="811" h="1254">
                    <a:moveTo>
                      <a:pt x="24" y="0"/>
                    </a:moveTo>
                    <a:lnTo>
                      <a:pt x="811" y="0"/>
                    </a:lnTo>
                    <a:lnTo>
                      <a:pt x="811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67360" y="1868400"/>
                <a:ext cx="260280" cy="96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3043440" y="1892160"/>
              <a:ext cx="0" cy="140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16600" y="1496880"/>
              <a:ext cx="495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69320" y="233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7320" y="871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19760" y="1817640"/>
              <a:ext cx="644400" cy="1163520"/>
            </a:xfrm>
            <a:custGeom>
              <a:avLst/>
              <a:gdLst/>
              <a:ahLst/>
              <a:rect l="l" t="t" r="r" b="b"/>
              <a:pathLst>
                <a:path w="406" h="733">
                  <a:moveTo>
                    <a:pt x="0" y="0"/>
                  </a:moveTo>
                  <a:lnTo>
                    <a:pt x="0" y="281"/>
                  </a:lnTo>
                  <a:lnTo>
                    <a:pt x="406" y="515"/>
                  </a:lnTo>
                  <a:lnTo>
                    <a:pt x="406" y="7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35000" y="181116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61280" y="3817800"/>
            <a:ext cx="4263840" cy="2734200"/>
            <a:chOff x="1961280" y="3817800"/>
            <a:chExt cx="4263840" cy="2734200"/>
          </a:xfrm>
        </p:grpSpPr>
        <p:grpSp>
          <p:nvGrpSpPr>
            <p:cNvPr id="57" name=""/>
            <p:cNvGrpSpPr/>
            <p:nvPr/>
          </p:nvGrpSpPr>
          <p:grpSpPr>
            <a:xfrm>
              <a:off x="1961280" y="3817800"/>
              <a:ext cx="4263840" cy="2734200"/>
              <a:chOff x="1961280" y="3817800"/>
              <a:chExt cx="4263840" cy="273420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2523960" y="3908160"/>
                <a:ext cx="0" cy="209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23960" y="5999040"/>
                <a:ext cx="360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36560" y="3957480"/>
                <a:ext cx="2041200" cy="2063880"/>
              </a:xfrm>
              <a:custGeom>
                <a:avLst/>
                <a:gdLst/>
                <a:ahLst/>
                <a:rect l="l" t="t" r="r" b="b"/>
                <a:pathLst>
                  <a:path w="1286" h="1300">
                    <a:moveTo>
                      <a:pt x="0" y="1278"/>
                    </a:moveTo>
                    <a:cubicBezTo>
                      <a:pt x="100" y="1289"/>
                      <a:pt x="200" y="1300"/>
                      <a:pt x="319" y="1278"/>
                    </a:cubicBezTo>
                    <a:cubicBezTo>
                      <a:pt x="438" y="1256"/>
                      <a:pt x="612" y="1204"/>
                      <a:pt x="717" y="1146"/>
                    </a:cubicBezTo>
                    <a:cubicBezTo>
                      <a:pt x="822" y="1088"/>
                      <a:pt x="877" y="1020"/>
                      <a:pt x="951" y="928"/>
                    </a:cubicBezTo>
                    <a:cubicBezTo>
                      <a:pt x="1025" y="836"/>
                      <a:pt x="1113" y="697"/>
                      <a:pt x="1161" y="592"/>
                    </a:cubicBezTo>
                    <a:cubicBezTo>
                      <a:pt x="1209" y="487"/>
                      <a:pt x="1218" y="395"/>
                      <a:pt x="1239" y="296"/>
                    </a:cubicBezTo>
                    <a:cubicBezTo>
                      <a:pt x="1260" y="197"/>
                      <a:pt x="1273" y="98"/>
                      <a:pt x="1286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24800" y="549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69320" y="3817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125600" y="604188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61280" y="4707000"/>
                <a:ext cx="411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523960" y="4971960"/>
                <a:ext cx="1829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67160" y="4971960"/>
                <a:ext cx="0" cy="1039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42480" y="4583160"/>
                <a:ext cx="133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(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19280" y="4922640"/>
                <a:ext cx="7452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618440" y="395748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881240" y="11192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, I -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9" name="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0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8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9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5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12720" y="614520"/>
            <a:ext cx="779472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óżnic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6440" y="4384800"/>
            <a:ext cx="828036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2242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7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2248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0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9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3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2284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2286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3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6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9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4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09840" y="2720880"/>
            <a:ext cx="2609640" cy="534960"/>
          </a:xfrm>
          <a:custGeom>
            <a:avLst/>
            <a:gdLst/>
            <a:ahLst/>
            <a:rect l="l" t="t" r="r" b="b"/>
            <a:pathLst>
              <a:path w="1644" h="337">
                <a:moveTo>
                  <a:pt x="1644" y="133"/>
                </a:moveTo>
                <a:cubicBezTo>
                  <a:pt x="1468" y="210"/>
                  <a:pt x="1293" y="287"/>
                  <a:pt x="1137" y="312"/>
                </a:cubicBezTo>
                <a:cubicBezTo>
                  <a:pt x="981" y="337"/>
                  <a:pt x="860" y="300"/>
                  <a:pt x="709" y="281"/>
                </a:cubicBezTo>
                <a:cubicBezTo>
                  <a:pt x="558" y="262"/>
                  <a:pt x="351" y="242"/>
                  <a:pt x="233" y="195"/>
                </a:cubicBezTo>
                <a:cubicBezTo>
                  <a:pt x="115" y="148"/>
                  <a:pt x="57" y="74"/>
                  <a:pt x="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6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9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0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2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3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4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2348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5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2356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8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5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6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7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88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917640" y="3179880"/>
            <a:ext cx="2941560" cy="1836720"/>
          </a:xfrm>
          <a:custGeom>
            <a:avLst/>
            <a:gdLst/>
            <a:ahLst/>
            <a:rect l="l" t="t" r="r" b="b"/>
            <a:pathLst>
              <a:path w="1853" h="1157">
                <a:moveTo>
                  <a:pt x="1853" y="803"/>
                </a:moveTo>
                <a:cubicBezTo>
                  <a:pt x="1423" y="937"/>
                  <a:pt x="994" y="1071"/>
                  <a:pt x="708" y="1114"/>
                </a:cubicBezTo>
                <a:cubicBezTo>
                  <a:pt x="422" y="1157"/>
                  <a:pt x="255" y="1104"/>
                  <a:pt x="139" y="1060"/>
                </a:cubicBezTo>
                <a:cubicBezTo>
                  <a:pt x="23" y="1016"/>
                  <a:pt x="28" y="988"/>
                  <a:pt x="14" y="849"/>
                </a:cubicBezTo>
                <a:cubicBezTo>
                  <a:pt x="0" y="710"/>
                  <a:pt x="27" y="367"/>
                  <a:pt x="53" y="226"/>
                </a:cubicBezTo>
                <a:cubicBezTo>
                  <a:pt x="79" y="85"/>
                  <a:pt x="124" y="42"/>
                  <a:pt x="17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539280" y="1436760"/>
            <a:ext cx="7885800" cy="4802040"/>
            <a:chOff x="539280" y="1436760"/>
            <a:chExt cx="7885800" cy="4802040"/>
          </a:xfrm>
        </p:grpSpPr>
        <p:sp>
          <p:nvSpPr>
            <p:cNvPr id="2393" name=""/>
            <p:cNvSpPr/>
            <p:nvPr/>
          </p:nvSpPr>
          <p:spPr>
            <a:xfrm>
              <a:off x="2612880" y="1646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928800" y="270036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550880" y="33289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77440" y="3333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9880" y="17384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27000" y="156672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927000" y="21844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39280" y="18144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927080" y="32479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013120" y="307656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013120" y="369396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65040" y="3360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85960" y="267192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2565360" y="348156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2565360" y="359244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2712600" y="309096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712960" y="360828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874600" y="3171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16080" y="3273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81120" y="244800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38440" y="255420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758960" y="250776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5" name=""/>
            <p:cNvGrpSpPr/>
            <p:nvPr/>
          </p:nvGrpSpPr>
          <p:grpSpPr>
            <a:xfrm>
              <a:off x="1758960" y="2741760"/>
              <a:ext cx="157320" cy="106200"/>
              <a:chOff x="1758960" y="2741760"/>
              <a:chExt cx="157320" cy="106200"/>
            </a:xfrm>
          </p:grpSpPr>
          <p:sp>
            <p:nvSpPr>
              <p:cNvPr id="2416" name=""/>
              <p:cNvSpPr/>
              <p:nvPr/>
            </p:nvSpPr>
            <p:spPr>
              <a:xfrm>
                <a:off x="1758960" y="276228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789200" y="274176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8" name=""/>
            <p:cNvSpPr/>
            <p:nvPr/>
          </p:nvSpPr>
          <p:spPr>
            <a:xfrm>
              <a:off x="1916280" y="284328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1581120" y="270684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2013120" y="232092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2013120" y="288900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927080" y="16984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13120" y="152100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3120" y="21448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154240" y="179388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228400" y="1835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39880" y="325908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27000" y="237168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927000" y="369900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879480" y="39142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022480" y="309096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184560" y="262080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260880" y="26812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184560" y="246852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260880" y="253368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341520" y="26812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341520" y="152568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971720" y="149544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300480" y="149544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971720" y="306072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971720" y="386712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682720" y="386712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300480" y="386712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34200" y="2433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767400" y="253368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06680" y="20779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82640" y="21193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392640" y="27417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01360" y="2771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227560" y="28987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308200" y="29401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03920" y="254016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861240" y="265104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877080" y="26046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5" name=""/>
            <p:cNvGrpSpPr/>
            <p:nvPr/>
          </p:nvGrpSpPr>
          <p:grpSpPr>
            <a:xfrm>
              <a:off x="6877080" y="2838600"/>
              <a:ext cx="156960" cy="106200"/>
              <a:chOff x="6877080" y="2838600"/>
              <a:chExt cx="156960" cy="106200"/>
            </a:xfrm>
          </p:grpSpPr>
          <p:sp>
            <p:nvSpPr>
              <p:cNvPr id="2456" name=""/>
              <p:cNvSpPr/>
              <p:nvPr/>
            </p:nvSpPr>
            <p:spPr>
              <a:xfrm>
                <a:off x="6877080" y="285912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906960" y="283860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8" name=""/>
            <p:cNvSpPr/>
            <p:nvPr/>
          </p:nvSpPr>
          <p:spPr>
            <a:xfrm>
              <a:off x="7034040" y="29336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6703560" y="280368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7129440" y="2412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129440" y="29844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043760" y="332892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129440" y="315288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129440" y="37702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408800" y="34304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115040" y="161784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115040" y="22352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635160" y="18637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135920" y="161280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651800" y="273204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734240" y="279252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651800" y="257976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34240" y="26398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808760" y="279252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808760" y="161280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041680" y="25239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875720" y="218916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51320" y="22305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59880" y="28526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970400" y="288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162400" y="397836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162400" y="27781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005440" y="344160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86440" y="35067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005440" y="329400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086440" y="335448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162400" y="350208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162400" y="27781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04040" y="331956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13520" y="356220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22240" y="3598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2" name=""/>
            <p:cNvGrpSpPr/>
            <p:nvPr/>
          </p:nvGrpSpPr>
          <p:grpSpPr>
            <a:xfrm>
              <a:off x="4908600" y="3157560"/>
              <a:ext cx="106200" cy="536400"/>
              <a:chOff x="4908600" y="3157560"/>
              <a:chExt cx="106200" cy="536400"/>
            </a:xfrm>
          </p:grpSpPr>
          <p:sp>
            <p:nvSpPr>
              <p:cNvPr id="2493" name=""/>
              <p:cNvSpPr/>
              <p:nvPr/>
            </p:nvSpPr>
            <p:spPr>
              <a:xfrm>
                <a:off x="4959000" y="315756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908600" y="31575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5" name=""/>
            <p:cNvSpPr/>
            <p:nvPr/>
          </p:nvSpPr>
          <p:spPr>
            <a:xfrm>
              <a:off x="7089840" y="394812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607000" y="22906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5400000">
              <a:off x="1140840" y="24836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915480" y="152100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5400000">
              <a:off x="2588400" y="129456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306080" y="22384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018200" y="178920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2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3" name=""/>
                <p:cNvSpPr txBox="1"/>
                <p:nvPr/>
              </p:nvSpPr>
              <p:spPr>
                <a:xfrm>
                  <a:off x="1859040" y="428292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4" name=""/>
                <p:cNvSpPr txBox="1"/>
                <p:nvPr/>
              </p:nvSpPr>
              <p:spPr>
                <a:xfrm>
                  <a:off x="5124600" y="487188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05" name=""/>
            <p:cNvSpPr/>
            <p:nvPr/>
          </p:nvSpPr>
          <p:spPr>
            <a:xfrm>
              <a:off x="4194000" y="253692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6400" y="269892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7" name=""/>
                <p:cNvSpPr txBox="1"/>
                <p:nvPr/>
              </p:nvSpPr>
              <p:spPr>
                <a:xfrm>
                  <a:off x="5068800" y="554184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8400" y="-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asymptotyczne BOD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9680" y="1220760"/>
                <a:ext cx="4241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5879520" y="12049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zkład zer i biegun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8360" y="1465200"/>
            <a:ext cx="8626680" cy="5266800"/>
            <a:chOff x="198360" y="1465200"/>
            <a:chExt cx="8626680" cy="5266800"/>
          </a:xfrm>
        </p:grpSpPr>
        <p:sp>
          <p:nvSpPr>
            <p:cNvPr id="75" name=""/>
            <p:cNvSpPr/>
            <p:nvPr/>
          </p:nvSpPr>
          <p:spPr>
            <a:xfrm flipV="1">
              <a:off x="1843200" y="2709720"/>
              <a:ext cx="0" cy="16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5800" y="4343400"/>
              <a:ext cx="47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3360" y="4329000"/>
              <a:ext cx="394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      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10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3200" y="358776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59040" y="3141360"/>
              <a:ext cx="44604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5080" y="31543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046400" y="2611440"/>
              <a:ext cx="48420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57800" y="2660760"/>
              <a:ext cx="118260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9720" y="4281480"/>
              <a:ext cx="98640" cy="11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86280" y="4299120"/>
              <a:ext cx="98280" cy="11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159000" y="4286160"/>
              <a:ext cx="123840" cy="123840"/>
              <a:chOff x="3159000" y="4286160"/>
              <a:chExt cx="123840" cy="123840"/>
            </a:xfrm>
          </p:grpSpPr>
          <p:sp>
            <p:nvSpPr>
              <p:cNvPr id="86" name=""/>
              <p:cNvSpPr/>
              <p:nvPr/>
            </p:nvSpPr>
            <p:spPr>
              <a:xfrm>
                <a:off x="3159000" y="429912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168720" y="428616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459320" y="4297320"/>
              <a:ext cx="123840" cy="123840"/>
              <a:chOff x="4459320" y="4297320"/>
              <a:chExt cx="123840" cy="123840"/>
            </a:xfrm>
          </p:grpSpPr>
          <p:sp>
            <p:nvSpPr>
              <p:cNvPr id="89" name=""/>
              <p:cNvSpPr/>
              <p:nvPr/>
            </p:nvSpPr>
            <p:spPr>
              <a:xfrm>
                <a:off x="4459320" y="431028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469040" y="429732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641640" y="4097160"/>
              <a:ext cx="21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 skala logarytmicz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6520" y="2548080"/>
              <a:ext cx="78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T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95480" y="285120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[d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200" y="33480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64440" y="5315040"/>
              <a:ext cx="801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Arg T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39240" y="330840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16560" y="263520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99320" y="285444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1760" y="308916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320" y="266400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7960" y="230184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75040" y="290052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4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771640" y="3564000"/>
              <a:ext cx="0" cy="766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216240" y="3166560"/>
              <a:ext cx="0" cy="116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044960" y="3166920"/>
              <a:ext cx="0" cy="1176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6560" y="2635200"/>
              <a:ext cx="0" cy="1708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34040" y="2647800"/>
              <a:ext cx="0" cy="1695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181480" y="4292640"/>
              <a:ext cx="123840" cy="123840"/>
              <a:chOff x="5181480" y="4292640"/>
              <a:chExt cx="123840" cy="123840"/>
            </a:xfrm>
          </p:grpSpPr>
          <p:sp>
            <p:nvSpPr>
              <p:cNvPr id="109" name=""/>
              <p:cNvSpPr/>
              <p:nvPr/>
            </p:nvSpPr>
            <p:spPr>
              <a:xfrm>
                <a:off x="5181480" y="4305600"/>
                <a:ext cx="123840" cy="1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191200" y="4292640"/>
                <a:ext cx="11088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868400" y="48769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81360" y="4836960"/>
              <a:ext cx="46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3960" y="55292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75904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9040" y="50720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8840" y="508464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1800" y="5529240"/>
              <a:ext cx="87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11948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32440" y="5084640"/>
              <a:ext cx="42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9800" y="5543640"/>
              <a:ext cx="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8000" y="6396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17880" y="51004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33960" y="51418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84760" y="5724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0760" y="5084640"/>
              <a:ext cx="0" cy="371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1000" y="512604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1800" y="5554800"/>
              <a:ext cx="0" cy="766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046400" y="5121000"/>
              <a:ext cx="0" cy="34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0080" y="515772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52920" y="5084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9360" y="513396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52920" y="55418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51640" y="513720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702320" y="1465200"/>
              <a:ext cx="4093920" cy="746640"/>
              <a:chOff x="4702320" y="1465200"/>
              <a:chExt cx="4093920" cy="74664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702320" y="1646280"/>
                <a:ext cx="37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49720" y="1701720"/>
                <a:ext cx="2932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27480" y="1601640"/>
                <a:ext cx="9864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26280" y="1612800"/>
                <a:ext cx="9828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468760" y="1584360"/>
                <a:ext cx="123840" cy="123840"/>
                <a:chOff x="5468760" y="1584360"/>
                <a:chExt cx="123840" cy="123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468760" y="159732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478480" y="158436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834240" y="1589040"/>
                <a:ext cx="123840" cy="123840"/>
                <a:chOff x="6834240" y="1589040"/>
                <a:chExt cx="123840" cy="123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834240" y="160200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6843960" y="158904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740720" y="1566720"/>
                <a:ext cx="123840" cy="123840"/>
                <a:chOff x="7740720" y="1566720"/>
                <a:chExt cx="123840" cy="123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740720" y="1579680"/>
                  <a:ext cx="123840" cy="11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7750440" y="1566720"/>
                  <a:ext cx="110880" cy="12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8463240" y="146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838760" y="338940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198360" y="3747960"/>
                  <a:ext cx="1489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1905120" y="5275440"/>
              <a:ext cx="5343480" cy="1095120"/>
            </a:xfrm>
            <a:custGeom>
              <a:avLst/>
              <a:gdLst/>
              <a:ahLst/>
              <a:rect l="l" t="t" r="r" b="b"/>
              <a:pathLst>
                <a:path w="3366" h="690">
                  <a:moveTo>
                    <a:pt x="0" y="153"/>
                  </a:moveTo>
                  <a:cubicBezTo>
                    <a:pt x="45" y="150"/>
                    <a:pt x="204" y="149"/>
                    <a:pt x="273" y="137"/>
                  </a:cubicBezTo>
                  <a:cubicBezTo>
                    <a:pt x="342" y="125"/>
                    <a:pt x="365" y="99"/>
                    <a:pt x="413" y="83"/>
                  </a:cubicBezTo>
                  <a:cubicBezTo>
                    <a:pt x="461" y="67"/>
                    <a:pt x="509" y="57"/>
                    <a:pt x="561" y="44"/>
                  </a:cubicBezTo>
                  <a:cubicBezTo>
                    <a:pt x="613" y="31"/>
                    <a:pt x="677" y="10"/>
                    <a:pt x="725" y="5"/>
                  </a:cubicBezTo>
                  <a:cubicBezTo>
                    <a:pt x="773" y="0"/>
                    <a:pt x="797" y="2"/>
                    <a:pt x="849" y="12"/>
                  </a:cubicBezTo>
                  <a:cubicBezTo>
                    <a:pt x="901" y="22"/>
                    <a:pt x="991" y="54"/>
                    <a:pt x="1036" y="67"/>
                  </a:cubicBezTo>
                  <a:cubicBezTo>
                    <a:pt x="1081" y="80"/>
                    <a:pt x="1083" y="85"/>
                    <a:pt x="1122" y="90"/>
                  </a:cubicBezTo>
                  <a:cubicBezTo>
                    <a:pt x="1161" y="95"/>
                    <a:pt x="1208" y="106"/>
                    <a:pt x="1270" y="98"/>
                  </a:cubicBezTo>
                  <a:cubicBezTo>
                    <a:pt x="1332" y="90"/>
                    <a:pt x="1430" y="52"/>
                    <a:pt x="1496" y="44"/>
                  </a:cubicBezTo>
                  <a:cubicBezTo>
                    <a:pt x="1562" y="36"/>
                    <a:pt x="1619" y="46"/>
                    <a:pt x="1668" y="51"/>
                  </a:cubicBezTo>
                  <a:cubicBezTo>
                    <a:pt x="1717" y="56"/>
                    <a:pt x="1748" y="59"/>
                    <a:pt x="1792" y="75"/>
                  </a:cubicBezTo>
                  <a:cubicBezTo>
                    <a:pt x="1836" y="91"/>
                    <a:pt x="1877" y="103"/>
                    <a:pt x="1933" y="145"/>
                  </a:cubicBezTo>
                  <a:cubicBezTo>
                    <a:pt x="1989" y="187"/>
                    <a:pt x="2057" y="263"/>
                    <a:pt x="2127" y="324"/>
                  </a:cubicBezTo>
                  <a:cubicBezTo>
                    <a:pt x="2197" y="385"/>
                    <a:pt x="2268" y="468"/>
                    <a:pt x="2353" y="511"/>
                  </a:cubicBezTo>
                  <a:cubicBezTo>
                    <a:pt x="2438" y="554"/>
                    <a:pt x="2550" y="564"/>
                    <a:pt x="2634" y="581"/>
                  </a:cubicBezTo>
                  <a:cubicBezTo>
                    <a:pt x="2718" y="598"/>
                    <a:pt x="2772" y="599"/>
                    <a:pt x="2860" y="613"/>
                  </a:cubicBezTo>
                  <a:cubicBezTo>
                    <a:pt x="2948" y="627"/>
                    <a:pt x="3080" y="654"/>
                    <a:pt x="3164" y="667"/>
                  </a:cubicBezTo>
                  <a:cubicBezTo>
                    <a:pt x="3248" y="680"/>
                    <a:pt x="3324" y="685"/>
                    <a:pt x="3366" y="690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2920" y="627228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rg T(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65280" y="4510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3797280"/>
              <a:ext cx="0" cy="544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5200" y="2647800"/>
              <a:ext cx="150948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84800" y="3809880"/>
              <a:ext cx="66852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5920" y="2709720"/>
              <a:ext cx="0" cy="100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1320" y="3060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40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2517" name="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821040" y="4497480"/>
            <a:ext cx="0" cy="11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6" name="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2527" name="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2547" name="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2556" name="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rot="10800000">
            <a:off x="3695760" y="390960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921120" y="40784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6210360" y="3125880"/>
                <a:ext cx="236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7" name=""/>
          <p:cNvSpPr/>
          <p:nvPr/>
        </p:nvSpPr>
        <p:spPr>
          <a:xfrm>
            <a:off x="3836880" y="5051520"/>
            <a:ext cx="0" cy="33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192480" y="4989600"/>
            <a:ext cx="59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0" name=""/>
          <p:cNvGrpSpPr/>
          <p:nvPr/>
        </p:nvGrpSpPr>
        <p:grpSpPr>
          <a:xfrm>
            <a:off x="1677960" y="1112760"/>
            <a:ext cx="6797880" cy="4516560"/>
            <a:chOff x="1677960" y="1112760"/>
            <a:chExt cx="6797880" cy="4516560"/>
          </a:xfrm>
        </p:grpSpPr>
        <p:sp>
          <p:nvSpPr>
            <p:cNvPr id="2571" name=""/>
            <p:cNvSpPr/>
            <p:nvPr/>
          </p:nvSpPr>
          <p:spPr>
            <a:xfrm>
              <a:off x="1677960" y="35798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0676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06760" y="32511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216240" y="31496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79872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3506760" y="27385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rot="10800000">
              <a:off x="3687840" y="14522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8" name=""/>
            <p:cNvGrpSpPr/>
            <p:nvPr/>
          </p:nvGrpSpPr>
          <p:grpSpPr>
            <a:xfrm>
              <a:off x="4770360" y="2948040"/>
              <a:ext cx="582480" cy="102600"/>
              <a:chOff x="4770360" y="2948040"/>
              <a:chExt cx="582480" cy="102600"/>
            </a:xfrm>
          </p:grpSpPr>
          <p:sp>
            <p:nvSpPr>
              <p:cNvPr id="2579" name=""/>
              <p:cNvSpPr/>
              <p:nvPr/>
            </p:nvSpPr>
            <p:spPr>
              <a:xfrm>
                <a:off x="4770360" y="29480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964400" y="30506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3824280" y="5629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82104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37778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747960" y="11271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494080" y="31496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7828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86360" y="4792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8" name=""/>
            <p:cNvGrpSpPr/>
            <p:nvPr/>
          </p:nvGrpSpPr>
          <p:grpSpPr>
            <a:xfrm>
              <a:off x="2347920" y="4856040"/>
              <a:ext cx="291600" cy="306360"/>
              <a:chOff x="2347920" y="4856040"/>
              <a:chExt cx="291600" cy="306360"/>
            </a:xfrm>
          </p:grpSpPr>
          <p:sp>
            <p:nvSpPr>
              <p:cNvPr id="2589" name=""/>
              <p:cNvSpPr/>
              <p:nvPr/>
            </p:nvSpPr>
            <p:spPr>
              <a:xfrm>
                <a:off x="249948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347920" y="51339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1" name=""/>
            <p:cNvSpPr/>
            <p:nvPr/>
          </p:nvSpPr>
          <p:spPr>
            <a:xfrm>
              <a:off x="5249880" y="25812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0720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868480" y="3151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7828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41353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 flipV="1">
              <a:off x="3173040" y="33858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113360" y="29638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95200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645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782880" y="23130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rot="10800000">
              <a:off x="2392200" y="34365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49408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49408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0436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008600" y="14954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6" name=""/>
            <p:cNvGrpSpPr/>
            <p:nvPr/>
          </p:nvGrpSpPr>
          <p:grpSpPr>
            <a:xfrm>
              <a:off x="3575160" y="3855960"/>
              <a:ext cx="491760" cy="685800"/>
              <a:chOff x="3575160" y="3855960"/>
              <a:chExt cx="491760" cy="685800"/>
            </a:xfrm>
          </p:grpSpPr>
          <p:sp>
            <p:nvSpPr>
              <p:cNvPr id="2607" name=""/>
              <p:cNvSpPr/>
              <p:nvPr/>
            </p:nvSpPr>
            <p:spPr>
              <a:xfrm>
                <a:off x="3575160" y="38559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575160" y="40845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82104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0" name=""/>
            <p:cNvSpPr/>
            <p:nvPr/>
          </p:nvSpPr>
          <p:spPr>
            <a:xfrm>
              <a:off x="2925720" y="4151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254640" y="3270240"/>
              <a:ext cx="222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771560" y="31734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3" name=""/>
            <p:cNvGrpSpPr/>
            <p:nvPr/>
          </p:nvGrpSpPr>
          <p:grpSpPr>
            <a:xfrm>
              <a:off x="4726080" y="5305320"/>
              <a:ext cx="582120" cy="102960"/>
              <a:chOff x="4726080" y="5305320"/>
              <a:chExt cx="582120" cy="102960"/>
            </a:xfrm>
          </p:grpSpPr>
          <p:sp>
            <p:nvSpPr>
              <p:cNvPr id="2614" name=""/>
              <p:cNvSpPr/>
              <p:nvPr/>
            </p:nvSpPr>
            <p:spPr>
              <a:xfrm>
                <a:off x="4726080" y="53053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919760" y="54082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6" name=""/>
            <p:cNvSpPr/>
            <p:nvPr/>
          </p:nvSpPr>
          <p:spPr>
            <a:xfrm>
              <a:off x="50356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356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495520" y="48387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435400" y="47829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398920" y="50576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807000" y="36291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2" name=""/>
            <p:cNvGrpSpPr/>
            <p:nvPr/>
          </p:nvGrpSpPr>
          <p:grpSpPr>
            <a:xfrm>
              <a:off x="4473720" y="3828960"/>
              <a:ext cx="316800" cy="76320"/>
              <a:chOff x="4473720" y="3828960"/>
              <a:chExt cx="316800" cy="76320"/>
            </a:xfrm>
          </p:grpSpPr>
          <p:sp>
            <p:nvSpPr>
              <p:cNvPr id="2623" name=""/>
              <p:cNvSpPr/>
              <p:nvPr/>
            </p:nvSpPr>
            <p:spPr>
              <a:xfrm>
                <a:off x="4473720" y="38289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483440" y="39052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5" name=""/>
            <p:cNvSpPr/>
            <p:nvPr/>
          </p:nvSpPr>
          <p:spPr>
            <a:xfrm>
              <a:off x="463716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63716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575240" y="47736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46520" y="35830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09608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846600" y="28576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2634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7" name="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2638" name="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648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9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660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5" name="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2666" name="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8" name="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75280" y="3662280"/>
              <a:ext cx="120312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1" name="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2" name="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4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5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06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707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6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827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2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833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7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970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4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3005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2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1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3052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3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3064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3067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3073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3076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8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9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3080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2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3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3084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7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3088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0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4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3095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0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3121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0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3161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3189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3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3230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1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4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3245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3248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3268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6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3277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9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2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3283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5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3286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8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832120" y="188748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921040" y="1701720"/>
            <a:ext cx="144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921040" y="2354400"/>
            <a:ext cx="1440" cy="233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386080" y="198756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2507760" y="20304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780080" y="2916360"/>
            <a:ext cx="536400" cy="5364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44960" y="3033720"/>
            <a:ext cx="1800" cy="297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4960800" y="298620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960800" y="3224160"/>
            <a:ext cx="163800" cy="111240"/>
            <a:chOff x="4960800" y="3224160"/>
            <a:chExt cx="163800" cy="111240"/>
          </a:xfrm>
        </p:grpSpPr>
        <p:sp>
          <p:nvSpPr>
            <p:cNvPr id="3321" name=""/>
            <p:cNvSpPr/>
            <p:nvPr/>
          </p:nvSpPr>
          <p:spPr>
            <a:xfrm>
              <a:off x="4960800" y="3251160"/>
              <a:ext cx="1638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992840" y="3224160"/>
              <a:ext cx="1317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5124600" y="3330720"/>
            <a:ext cx="10152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775040" y="318780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26120" y="33782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26120" y="22046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594320" y="318780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884320" y="2544840"/>
            <a:ext cx="7488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836800" y="2916360"/>
            <a:ext cx="541440" cy="5410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203640" y="30337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 flipH="1" flipV="1">
            <a:off x="2920680" y="2986200"/>
            <a:ext cx="2667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022200" y="3224160"/>
            <a:ext cx="165240" cy="111240"/>
            <a:chOff x="3022200" y="3224160"/>
            <a:chExt cx="165240" cy="111240"/>
          </a:xfrm>
        </p:grpSpPr>
        <p:sp>
          <p:nvSpPr>
            <p:cNvPr id="3333" name=""/>
            <p:cNvSpPr/>
            <p:nvPr/>
          </p:nvSpPr>
          <p:spPr>
            <a:xfrm flipH="1">
              <a:off x="3022200" y="32511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022560" y="32241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5" name=""/>
          <p:cNvSpPr/>
          <p:nvPr/>
        </p:nvSpPr>
        <p:spPr>
          <a:xfrm flipH="1">
            <a:off x="2921040" y="3335400"/>
            <a:ext cx="10152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3203640" y="31924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921040" y="3382920"/>
            <a:ext cx="144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 flipV="1">
            <a:off x="2916360" y="27892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 flipH="1">
            <a:off x="3367080" y="31924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936880" y="3994200"/>
            <a:ext cx="2289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3559320" y="3133800"/>
            <a:ext cx="1046160" cy="117360"/>
            <a:chOff x="3559320" y="3133800"/>
            <a:chExt cx="1046160" cy="117360"/>
          </a:xfrm>
        </p:grpSpPr>
        <p:sp>
          <p:nvSpPr>
            <p:cNvPr id="3342" name=""/>
            <p:cNvSpPr/>
            <p:nvPr/>
          </p:nvSpPr>
          <p:spPr>
            <a:xfrm>
              <a:off x="3559320" y="3192480"/>
              <a:ext cx="1046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559320" y="31338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492800" y="31384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 flipV="1">
            <a:off x="4078440" y="25491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916360" y="2565360"/>
            <a:ext cx="11620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7" name=""/>
          <p:cNvGrpSpPr/>
          <p:nvPr/>
        </p:nvGrpSpPr>
        <p:grpSpPr>
          <a:xfrm>
            <a:off x="2857680" y="2560680"/>
            <a:ext cx="112680" cy="264960"/>
            <a:chOff x="2857680" y="2560680"/>
            <a:chExt cx="112680" cy="264960"/>
          </a:xfrm>
        </p:grpSpPr>
        <p:sp>
          <p:nvSpPr>
            <p:cNvPr id="3348" name=""/>
            <p:cNvSpPr/>
            <p:nvPr/>
          </p:nvSpPr>
          <p:spPr>
            <a:xfrm flipV="1">
              <a:off x="2916360" y="256068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857680" y="271476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2857680" y="1425600"/>
            <a:ext cx="112680" cy="264960"/>
            <a:chOff x="2857680" y="1425600"/>
            <a:chExt cx="112680" cy="264960"/>
          </a:xfrm>
        </p:grpSpPr>
        <p:sp>
          <p:nvSpPr>
            <p:cNvPr id="3351" name=""/>
            <p:cNvSpPr/>
            <p:nvPr/>
          </p:nvSpPr>
          <p:spPr>
            <a:xfrm flipV="1">
              <a:off x="2916360" y="142560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857680" y="157968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5167440" y="1674360"/>
            <a:ext cx="110880" cy="530640"/>
            <a:chOff x="5167440" y="1674360"/>
            <a:chExt cx="110880" cy="530640"/>
          </a:xfrm>
        </p:grpSpPr>
        <p:sp>
          <p:nvSpPr>
            <p:cNvPr id="3354" name=""/>
            <p:cNvSpPr/>
            <p:nvPr/>
          </p:nvSpPr>
          <p:spPr>
            <a:xfrm flipV="1">
              <a:off x="5226120" y="16743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67440" y="20937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4025880" y="3330720"/>
            <a:ext cx="111240" cy="566640"/>
            <a:chOff x="4025880" y="3330720"/>
            <a:chExt cx="111240" cy="566640"/>
          </a:xfrm>
        </p:grpSpPr>
        <p:sp>
          <p:nvSpPr>
            <p:cNvPr id="3357" name=""/>
            <p:cNvSpPr/>
            <p:nvPr/>
          </p:nvSpPr>
          <p:spPr>
            <a:xfrm>
              <a:off x="4078440" y="3330720"/>
              <a:ext cx="144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25880" y="33307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5783400" y="2189160"/>
            <a:ext cx="110880" cy="1576440"/>
            <a:chOff x="5783400" y="2189160"/>
            <a:chExt cx="110880" cy="1576440"/>
          </a:xfrm>
        </p:grpSpPr>
        <p:sp>
          <p:nvSpPr>
            <p:cNvPr id="3360" name=""/>
            <p:cNvSpPr/>
            <p:nvPr/>
          </p:nvSpPr>
          <p:spPr>
            <a:xfrm>
              <a:off x="5835600" y="2189160"/>
              <a:ext cx="6480" cy="1576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783400" y="21891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2" name=""/>
          <p:cNvSpPr/>
          <p:nvPr/>
        </p:nvSpPr>
        <p:spPr>
          <a:xfrm>
            <a:off x="2879640" y="14097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4046400" y="315432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2454120" y="3017880"/>
            <a:ext cx="33984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251784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63952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342040" y="301788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540540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52744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310360" y="20192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368680" y="20667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4678200" y="2236680"/>
            <a:ext cx="3034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4680000" y="18590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792680" y="19652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2540160" y="1504800"/>
            <a:ext cx="3013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2603520" y="155268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678040" y="1658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4313160" y="27669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4392360" y="28098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4466880" y="29163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3484440" y="27828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536640" y="2825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11160" y="29322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2556000" y="2619360"/>
            <a:ext cx="301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596680" y="2662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671200" y="276696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148280" y="34304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4200480" y="3473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4361040" y="357984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038400" y="1224000"/>
            <a:ext cx="4510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3069720" y="1265400"/>
            <a:ext cx="2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357720" y="13716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5921280" y="2800440"/>
            <a:ext cx="28584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979960" y="284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4211640" y="3994200"/>
            <a:ext cx="1440" cy="115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078440" y="4094280"/>
            <a:ext cx="26640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7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8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9" name=""/>
          <p:cNvSpPr/>
          <p:nvPr/>
        </p:nvSpPr>
        <p:spPr>
          <a:xfrm>
            <a:off x="6167880" y="1494000"/>
            <a:ext cx="21038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105000" y="1695600"/>
            <a:ext cx="1497240" cy="296640"/>
          </a:xfrm>
          <a:custGeom>
            <a:avLst/>
            <a:gdLst/>
            <a:ahLst/>
            <a:rect l="l" t="t" r="r" b="b"/>
            <a:pathLst>
              <a:path w="943" h="187">
                <a:moveTo>
                  <a:pt x="0" y="0"/>
                </a:moveTo>
                <a:cubicBezTo>
                  <a:pt x="393" y="78"/>
                  <a:pt x="786" y="156"/>
                  <a:pt x="943" y="1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1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3402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2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3413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3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3424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6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4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3435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7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3446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8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6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3457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9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7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3468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0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8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3479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0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3491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3494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3497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9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3500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2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5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3506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8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6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3517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9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7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3528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3539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542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4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545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7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548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551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2217600" y="5070600"/>
                <a:ext cx="4880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8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6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667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9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676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9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1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682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4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685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688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0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0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711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3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718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0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2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733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5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0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741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3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755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2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763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766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2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783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6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7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5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796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8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4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805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8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0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811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3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814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6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817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9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9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840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2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6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847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9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1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862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4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9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870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2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884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6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1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892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4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895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7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1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912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4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922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6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937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9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1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942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4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966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6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977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9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3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994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997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4025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3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4034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6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4037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9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4040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3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4060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4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4075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7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9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4080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2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3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4104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6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4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4115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7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1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4132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4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4135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7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3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4144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6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4147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9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4150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2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4180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1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niowy: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e: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2960" y="3541680"/>
            <a:ext cx="85550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yzac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 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1400" y="4578480"/>
            <a:ext cx="6970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4520" y="5559480"/>
            <a:ext cx="6714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9680" y="1360440"/>
            <a:ext cx="1987560" cy="345960"/>
          </a:xfrm>
          <a:prstGeom prst="rightArrow">
            <a:avLst>
              <a:gd name="adj1" fmla="val 50000"/>
              <a:gd name="adj2" fmla="val 1436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OWA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2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4183" name=""/>
          <p:cNvSpPr/>
          <p:nvPr/>
        </p:nvSpPr>
        <p:spPr>
          <a:xfrm>
            <a:off x="3073320" y="5022720"/>
            <a:ext cx="1308240" cy="662040"/>
          </a:xfrm>
          <a:prstGeom prst="wedgeRoundRectCallout">
            <a:avLst>
              <a:gd name="adj1" fmla="val 141018"/>
              <a:gd name="adj2" fmla="val -187648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4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1562040" y="1281240"/>
            <a:ext cx="7477200" cy="4587840"/>
          </a:xfrm>
          <a:custGeom>
            <a:avLst/>
            <a:gdLst/>
            <a:ahLst/>
            <a:rect l="l" t="t" r="r" b="b"/>
            <a:pathLst>
              <a:path w="4710" h="2890">
                <a:moveTo>
                  <a:pt x="0" y="1419"/>
                </a:moveTo>
                <a:cubicBezTo>
                  <a:pt x="33" y="1351"/>
                  <a:pt x="67" y="1284"/>
                  <a:pt x="120" y="1185"/>
                </a:cubicBezTo>
                <a:cubicBezTo>
                  <a:pt x="173" y="1086"/>
                  <a:pt x="258" y="930"/>
                  <a:pt x="318" y="825"/>
                </a:cubicBezTo>
                <a:cubicBezTo>
                  <a:pt x="378" y="720"/>
                  <a:pt x="439" y="621"/>
                  <a:pt x="480" y="555"/>
                </a:cubicBezTo>
                <a:cubicBezTo>
                  <a:pt x="521" y="489"/>
                  <a:pt x="529" y="477"/>
                  <a:pt x="564" y="429"/>
                </a:cubicBezTo>
                <a:cubicBezTo>
                  <a:pt x="599" y="381"/>
                  <a:pt x="648" y="319"/>
                  <a:pt x="690" y="267"/>
                </a:cubicBezTo>
                <a:cubicBezTo>
                  <a:pt x="732" y="215"/>
                  <a:pt x="777" y="153"/>
                  <a:pt x="816" y="117"/>
                </a:cubicBezTo>
                <a:cubicBezTo>
                  <a:pt x="855" y="81"/>
                  <a:pt x="887" y="69"/>
                  <a:pt x="924" y="51"/>
                </a:cubicBezTo>
                <a:cubicBezTo>
                  <a:pt x="961" y="33"/>
                  <a:pt x="993" y="17"/>
                  <a:pt x="1038" y="9"/>
                </a:cubicBezTo>
                <a:cubicBezTo>
                  <a:pt x="1083" y="1"/>
                  <a:pt x="1140" y="0"/>
                  <a:pt x="1194" y="3"/>
                </a:cubicBezTo>
                <a:cubicBezTo>
                  <a:pt x="1248" y="6"/>
                  <a:pt x="1313" y="12"/>
                  <a:pt x="1362" y="27"/>
                </a:cubicBezTo>
                <a:cubicBezTo>
                  <a:pt x="1411" y="42"/>
                  <a:pt x="1443" y="60"/>
                  <a:pt x="1488" y="93"/>
                </a:cubicBezTo>
                <a:cubicBezTo>
                  <a:pt x="1533" y="126"/>
                  <a:pt x="1576" y="159"/>
                  <a:pt x="1632" y="225"/>
                </a:cubicBezTo>
                <a:cubicBezTo>
                  <a:pt x="1688" y="291"/>
                  <a:pt x="1758" y="393"/>
                  <a:pt x="1824" y="489"/>
                </a:cubicBezTo>
                <a:cubicBezTo>
                  <a:pt x="1890" y="585"/>
                  <a:pt x="1960" y="683"/>
                  <a:pt x="2028" y="801"/>
                </a:cubicBezTo>
                <a:cubicBezTo>
                  <a:pt x="2096" y="919"/>
                  <a:pt x="2120" y="987"/>
                  <a:pt x="2232" y="1197"/>
                </a:cubicBezTo>
                <a:cubicBezTo>
                  <a:pt x="2344" y="1407"/>
                  <a:pt x="2580" y="1848"/>
                  <a:pt x="2700" y="2061"/>
                </a:cubicBezTo>
                <a:cubicBezTo>
                  <a:pt x="2820" y="2274"/>
                  <a:pt x="2872" y="2366"/>
                  <a:pt x="2952" y="2475"/>
                </a:cubicBezTo>
                <a:cubicBezTo>
                  <a:pt x="3032" y="2584"/>
                  <a:pt x="3104" y="2651"/>
                  <a:pt x="3180" y="2715"/>
                </a:cubicBezTo>
                <a:cubicBezTo>
                  <a:pt x="3256" y="2779"/>
                  <a:pt x="3347" y="2831"/>
                  <a:pt x="3408" y="2859"/>
                </a:cubicBezTo>
                <a:cubicBezTo>
                  <a:pt x="3469" y="2887"/>
                  <a:pt x="3489" y="2890"/>
                  <a:pt x="3546" y="2883"/>
                </a:cubicBezTo>
                <a:cubicBezTo>
                  <a:pt x="3603" y="2876"/>
                  <a:pt x="3685" y="2852"/>
                  <a:pt x="3750" y="2817"/>
                </a:cubicBezTo>
                <a:cubicBezTo>
                  <a:pt x="3815" y="2782"/>
                  <a:pt x="3874" y="2735"/>
                  <a:pt x="3936" y="2673"/>
                </a:cubicBezTo>
                <a:cubicBezTo>
                  <a:pt x="3998" y="2611"/>
                  <a:pt x="4059" y="2530"/>
                  <a:pt x="4122" y="2445"/>
                </a:cubicBezTo>
                <a:cubicBezTo>
                  <a:pt x="4185" y="2360"/>
                  <a:pt x="4254" y="2259"/>
                  <a:pt x="4314" y="2163"/>
                </a:cubicBezTo>
                <a:cubicBezTo>
                  <a:pt x="4374" y="2067"/>
                  <a:pt x="4416" y="1988"/>
                  <a:pt x="4482" y="1869"/>
                </a:cubicBezTo>
                <a:cubicBezTo>
                  <a:pt x="4548" y="1750"/>
                  <a:pt x="4629" y="1599"/>
                  <a:pt x="4710" y="1449"/>
                </a:cubicBezTo>
              </a:path>
            </a:pathLst>
          </a:custGeom>
          <a:noFill/>
          <a:ln w="2844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 rot="774600">
            <a:off x="6808320" y="2808360"/>
            <a:ext cx="895320" cy="280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680880" y="3660840"/>
            <a:ext cx="4003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149760" y="134604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653120" y="1384200"/>
            <a:ext cx="5526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2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8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4209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1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7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4248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0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3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4264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6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4267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9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4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4275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7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4278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0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7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4288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0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1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4352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4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4356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8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4371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4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4375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7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0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4381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3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4384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6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0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4401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3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4414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6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4432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4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9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4450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2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6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4467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9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1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4482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4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5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8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9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4491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8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3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4504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6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4507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8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1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4522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4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4525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4528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0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1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4532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4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5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546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8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549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1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1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562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8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9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580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5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586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8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1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592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4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7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598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0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601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3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604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6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4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615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3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8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669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1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6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697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9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5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06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35040" y="32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oszczone charakterystyki tranzystora bipolarnego w konfiguracji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3040" y="1000440"/>
            <a:ext cx="8047800" cy="5688360"/>
            <a:chOff x="113040" y="1000440"/>
            <a:chExt cx="8047800" cy="5688360"/>
          </a:xfrm>
        </p:grpSpPr>
        <p:sp>
          <p:nvSpPr>
            <p:cNvPr id="169" name=""/>
            <p:cNvSpPr/>
            <p:nvPr/>
          </p:nvSpPr>
          <p:spPr>
            <a:xfrm flipV="1">
              <a:off x="4084920" y="1328760"/>
              <a:ext cx="0" cy="42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03400" y="5605560"/>
              <a:ext cx="62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084920" y="2004840"/>
              <a:ext cx="2826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51200" y="1497240"/>
              <a:ext cx="2116080" cy="410832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156200" y="1363680"/>
              <a:ext cx="3033720" cy="3712680"/>
              <a:chOff x="4156200" y="1363680"/>
              <a:chExt cx="3033720" cy="371268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384800" y="1955880"/>
                <a:ext cx="2803320" cy="528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314960" y="2677680"/>
                <a:ext cx="2874960" cy="33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4260960" y="3295800"/>
                <a:ext cx="2928960" cy="26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226040" y="3947760"/>
                <a:ext cx="2946240" cy="1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191120" y="4512960"/>
                <a:ext cx="298116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156200" y="5041440"/>
                <a:ext cx="301608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4402080" y="1363680"/>
                <a:ext cx="2735280" cy="62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350520" y="1279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13560" y="53596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2680" y="57420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174560" y="1000440"/>
              <a:ext cx="3183840" cy="4023360"/>
              <a:chOff x="4174560" y="1000440"/>
              <a:chExt cx="3183840" cy="402336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375800" y="1605960"/>
                <a:ext cx="2910600" cy="723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336200" y="2347920"/>
                <a:ext cx="2997720" cy="528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260960" y="2981160"/>
                <a:ext cx="3059280" cy="4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221360" y="3669840"/>
                <a:ext cx="3083040" cy="352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235400" y="4235400"/>
                <a:ext cx="3123000" cy="298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174560" y="4794480"/>
                <a:ext cx="3164040" cy="229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362840" y="1000440"/>
                <a:ext cx="2831760" cy="818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156040" y="1492560"/>
              <a:ext cx="1940040" cy="408924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930680" y="3575160"/>
              <a:ext cx="1087200" cy="1370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040" y="439596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wzro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emperatu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396120" y="4124520"/>
              <a:ext cx="247680" cy="1093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33000" y="1471680"/>
              <a:ext cx="198360" cy="358776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93240 h 3587760"/>
                <a:gd name="textAreaBottom" fmla="*/ 3494520 h 358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60520" y="29638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236600" y="2017440"/>
              <a:ext cx="2832120" cy="351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1346040" y="1793520"/>
              <a:ext cx="2746440" cy="373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9560" y="617868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786800">
              <a:off x="2961000" y="4414680"/>
              <a:ext cx="689040" cy="469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95520" y="4948560"/>
              <a:ext cx="1644840" cy="1522080"/>
            </a:xfrm>
            <a:custGeom>
              <a:avLst/>
              <a:gdLst/>
              <a:ahLst/>
              <a:rect l="l" t="t" r="r" b="b"/>
              <a:pathLst>
                <a:path w="1036" h="959">
                  <a:moveTo>
                    <a:pt x="1028" y="0"/>
                  </a:moveTo>
                  <a:cubicBezTo>
                    <a:pt x="1032" y="145"/>
                    <a:pt x="1036" y="291"/>
                    <a:pt x="982" y="421"/>
                  </a:cubicBezTo>
                  <a:cubicBezTo>
                    <a:pt x="928" y="551"/>
                    <a:pt x="865" y="690"/>
                    <a:pt x="701" y="780"/>
                  </a:cubicBezTo>
                  <a:cubicBezTo>
                    <a:pt x="537" y="870"/>
                    <a:pt x="268" y="914"/>
                    <a:pt x="0" y="959"/>
                  </a:cubicBezTo>
                </a:path>
              </a:pathLst>
            </a:custGeom>
            <a:noFill/>
            <a:ln cap="rnd" w="19080">
              <a:solidFill>
                <a:srgbClr val="008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5000" y="559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92240" y="4767120"/>
                <a:ext cx="250812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211" name="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64960" y="5338800"/>
            <a:ext cx="3426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i zwar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cp:lastPrinted>2004-04-25T13:15:06Z</cp:lastPrinted>
  <dcterms:modified xsi:type="dcterms:W3CDTF">2005-02-22T15:42:21Z</dcterms:modified>
  <cp:revision>235</cp:revision>
  <dc:subject/>
  <dc:title>UKŁADY ZASILANIA TRANZYSTORÓW</dc:title>
</cp:coreProperties>
</file>